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D96D-5732-40A8-81F5-C17DE0A3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A3AA-79D7-42A9-88F2-B3831432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438C-D192-46EA-A9B4-94BF8008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85E4-F8C2-4A85-B5D6-A3FEEC56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7665-9E11-4C4E-878C-1ED4A879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E9B1-95D1-4D0F-966C-2764F72D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72AE-2E27-4669-B770-7C69C2ED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559D-EBB5-4085-BF18-B9054498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8062-4E87-4E77-933B-A4E5D109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D835-D8C7-495D-881D-8451F4A2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B2DE-55D5-406D-9C69-801BF92A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7839-DE95-432F-A11B-14482A25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EB5B-FA1A-4373-ACD4-5E986551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7FBA-0306-49B5-B694-F6BF5B97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BF9C-DD73-4B7A-B6E9-BFE8594C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E79B-BD40-440F-9522-10F03C37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8409-10CB-4D11-B986-39F453CE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25D6-A157-4F58-9CA4-CEFA27CF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D3CB-C2C1-4EDE-A5D6-104FD9BD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5651-3728-483B-9E92-692BB7E0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F6F-2D53-4836-9088-941108F4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B98F-CC17-4ECF-A9E0-7ED21AA9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F2CA-C13A-4644-AEF8-8D922DAB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9913-4B91-491D-94C9-9A2C4361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FFB6-4F2C-497F-8DC2-E53345D5A8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140360" y="6426360"/>
            <a:ext cx="610920" cy="431640"/>
          </a:xfrm>
          <a:prstGeom prst="rect">
            <a:avLst/>
          </a:prstGeom>
          <a:solidFill>
            <a:srgbClr val="afc55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Health and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Consumers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grpSp>
        <p:nvGrpSpPr>
          <p:cNvPr id="7" name="Group 15"/>
          <p:cNvGrpSpPr/>
          <p:nvPr/>
        </p:nvGrpSpPr>
        <p:grpSpPr>
          <a:xfrm>
            <a:off x="3849840" y="258840"/>
            <a:ext cx="1436400" cy="1004760"/>
            <a:chOff x="3849840" y="258840"/>
            <a:chExt cx="1436400" cy="1004760"/>
          </a:xfrm>
        </p:grpSpPr>
        <p:pic>
          <p:nvPicPr>
            <p:cNvPr id="8" name="Picture 8" descr="LOGO CE_Vertical_EN_NEG_quadri_HR"/>
            <p:cNvPicPr/>
            <p:nvPr/>
          </p:nvPicPr>
          <p:blipFill>
            <a:blip r:embed="rId2"/>
            <a:stretch/>
          </p:blipFill>
          <p:spPr>
            <a:xfrm>
              <a:off x="3849840" y="258840"/>
              <a:ext cx="143640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Rectangle 13"/>
            <p:cNvSpPr/>
            <p:nvPr/>
          </p:nvSpPr>
          <p:spPr>
            <a:xfrm>
              <a:off x="4141800" y="1222200"/>
              <a:ext cx="622440" cy="36720"/>
            </a:xfrm>
            <a:prstGeom prst="rect">
              <a:avLst/>
            </a:prstGeom>
            <a:solidFill>
              <a:srgbClr val="afc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6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1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grpSp>
        <p:nvGrpSpPr>
          <p:cNvPr id="47" name="Group 20"/>
          <p:cNvGrpSpPr/>
          <p:nvPr/>
        </p:nvGrpSpPr>
        <p:grpSpPr>
          <a:xfrm>
            <a:off x="3849840" y="258840"/>
            <a:ext cx="1436400" cy="1000080"/>
            <a:chOff x="3849840" y="258840"/>
            <a:chExt cx="1436400" cy="1000080"/>
          </a:xfrm>
        </p:grpSpPr>
        <p:pic>
          <p:nvPicPr>
            <p:cNvPr id="48" name="Picture 6" descr="LOGO CE-EN-quadri.eps"/>
            <p:cNvPicPr/>
            <p:nvPr/>
          </p:nvPicPr>
          <p:blipFill>
            <a:blip r:embed="rId2"/>
            <a:stretch/>
          </p:blipFill>
          <p:spPr>
            <a:xfrm>
              <a:off x="3849840" y="258840"/>
              <a:ext cx="143640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Rectangle 14"/>
            <p:cNvSpPr/>
            <p:nvPr/>
          </p:nvSpPr>
          <p:spPr>
            <a:xfrm>
              <a:off x="4145040" y="1222200"/>
              <a:ext cx="619200" cy="36720"/>
            </a:xfrm>
            <a:prstGeom prst="rect">
              <a:avLst/>
            </a:prstGeom>
            <a:solidFill>
              <a:srgbClr val="afc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6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  <p:sp>
        <p:nvSpPr>
          <p:cNvPr id="50" name="Rectangle 16"/>
          <p:cNvSpPr/>
          <p:nvPr/>
        </p:nvSpPr>
        <p:spPr>
          <a:xfrm>
            <a:off x="4140360" y="6426360"/>
            <a:ext cx="610920" cy="431640"/>
          </a:xfrm>
          <a:prstGeom prst="rect">
            <a:avLst/>
          </a:prstGeom>
          <a:solidFill>
            <a:srgbClr val="afc55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Health and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Consumers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3817-0087-403D-844E-5BF902BCB7C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c.europa.eu/food/plant/pesticides/index_en.htm" TargetMode="External"/><Relationship Id="rId2" Type="http://schemas.openxmlformats.org/officeDocument/2006/relationships/hyperlink" Target="http://ec.europa.eu/sanco_pesticides" TargetMode="External"/><Relationship Id="rId3" Type="http://schemas.openxmlformats.org/officeDocument/2006/relationships/hyperlink" Target="http://eur-lex.europa.eu/legal-content/PT/TXT/PDF/?uri=CELEX:32009R1107&amp;rid=1" TargetMode="External"/><Relationship Id="rId4" Type="http://schemas.openxmlformats.org/officeDocument/2006/relationships/hyperlink" Target="http://eur-lex.europa.eu/legal-content/PT/TXT/PDF/?uri=CELEX:32009R1107&amp;rid=1" TargetMode="External"/><Relationship Id="rId5" Type="http://schemas.openxmlformats.org/officeDocument/2006/relationships/hyperlink" Target="http://eur-lex.europa.eu/legal-content/PT/TXT/PDF/?uri=CELEX:32009R1107&amp;rid=1" TargetMode="External"/><Relationship Id="rId6" Type="http://schemas.openxmlformats.org/officeDocument/2006/relationships/hyperlink" Target="http://eur-lex.europa.eu/legal-content/PT/TXT/PDF/?uri=CELEX:32009R1107&amp;rid=1" TargetMode="External"/><Relationship Id="rId7" Type="http://schemas.openxmlformats.org/officeDocument/2006/relationships/hyperlink" Target="http://eur-lex.europa.eu/legal-content/PT/TXT/PDF/?uri=CELEX:32013R0283&amp;rid=4" TargetMode="External"/><Relationship Id="rId8" Type="http://schemas.openxmlformats.org/officeDocument/2006/relationships/hyperlink" Target="http://eur-lex.europa.eu/legal-content/PT/TXT/PDF/?uri=CELEX:32013R0283&amp;rid=4" TargetMode="External"/><Relationship Id="rId9" Type="http://schemas.openxmlformats.org/officeDocument/2006/relationships/hyperlink" Target="http://eur-lex.europa.eu/legal-content/PT/TXT/PDF/?uri=CELEX:32013R0283&amp;rid=4" TargetMode="External"/><Relationship Id="rId10" Type="http://schemas.openxmlformats.org/officeDocument/2006/relationships/hyperlink" Target="http://eur-lex.europa.eu/legal-content/PT/TXT/PDF/?uri=CELEX:32013R0283&amp;rid=4" TargetMode="External"/><Relationship Id="rId11" Type="http://schemas.openxmlformats.org/officeDocument/2006/relationships/hyperlink" Target="http://eur-lex.europa.eu/legal-content/PT/TXT/PDF/?uri=CELEX:32013R0284&amp;rid=5" TargetMode="External"/><Relationship Id="rId12" Type="http://schemas.openxmlformats.org/officeDocument/2006/relationships/hyperlink" Target="http://eur-lex.europa.eu/legal-content/PT/TXT/PDF/?uri=CELEX:32013R0284&amp;rid=5" TargetMode="External"/><Relationship Id="rId13" Type="http://schemas.openxmlformats.org/officeDocument/2006/relationships/hyperlink" Target="http://eur-lex.europa.eu/legal-content/PT/TXT/PDF/?uri=CELEX:32013R0284&amp;rid=5" TargetMode="External"/><Relationship Id="rId14" Type="http://schemas.openxmlformats.org/officeDocument/2006/relationships/hyperlink" Target="http://eur-lex.europa.eu/legal-content/PT/TXT/PDF/?uri=CELEX:32013R0284&amp;rid=5" TargetMode="External"/><Relationship Id="rId15" Type="http://schemas.openxmlformats.org/officeDocument/2006/relationships/hyperlink" Target="http://eur-lex.europa.eu/legal-content/PT/TXT/PDF/?uri=CELEX:32011R0546&amp;rid=1" TargetMode="External"/><Relationship Id="rId16" Type="http://schemas.openxmlformats.org/officeDocument/2006/relationships/hyperlink" Target="http://eur-lex.europa.eu/legal-content/PT/TXT/PDF/?uri=CELEX:32011R0546&amp;rid=1" TargetMode="External"/><Relationship Id="rId17" Type="http://schemas.openxmlformats.org/officeDocument/2006/relationships/hyperlink" Target="http://eur-lex.europa.eu/legal-content/PT/TXT/PDF/?uri=CELEX:32011R0546&amp;rid=1" TargetMode="External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7160" y="2808000"/>
            <a:ext cx="8697600" cy="17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d624"/>
                </a:solidFill>
                <a:latin typeface="Verdana"/>
              </a:rPr>
              <a:t>The EU regulatory system on placing plant protection products on the market</a:t>
            </a: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09680" y="1281240"/>
            <a:ext cx="68403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Technical Mission from Brazil "Control and Regulation of Pesticides and Biocides"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Verdana"/>
              </a:rPr>
              <a:t>6-11 October 2014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233280" y="5316480"/>
            <a:ext cx="68407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Verdana"/>
              </a:rPr>
              <a:t>Wolfgang Reinert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European Commission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Health and Consumers Directorate-General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Unit Chemicals, contaminants, pesticides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79280" y="1609560"/>
            <a:ext cx="8896320" cy="50659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7510320" cy="4982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Authorisation of plant protection product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Authorisa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15856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In assessing applications, MS evluate active substance- and product-dossier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In granting authorisations, MS set out the requirements for placing on the market, e.g.: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classification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conditions of use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the label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MS enforce compliance with the authorisation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Commission monitors and controls MS activities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Zonal Mutual Recognition of authoris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7" name="Picture 4" descr="eur-map_amended"/>
          <p:cNvPicPr/>
          <p:nvPr/>
        </p:nvPicPr>
        <p:blipFill>
          <a:blip r:embed="rId1"/>
          <a:stretch/>
        </p:blipFill>
        <p:spPr>
          <a:xfrm>
            <a:off x="971640" y="1819440"/>
            <a:ext cx="741672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4640" y="1206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Zonal Mutual recognition of authoris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28760" y="2006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An authorisation </a:t>
            </a:r>
            <a:r>
              <a:rPr b="0" lang="en-US" sz="1900" spc="-1" strike="noStrike" u="sng">
                <a:solidFill>
                  <a:srgbClr val="0f5494"/>
                </a:solidFill>
                <a:uFillTx/>
                <a:latin typeface="Verdana"/>
              </a:rPr>
              <a:t>must</a:t>
            </a: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 be taken over by all other MS of the same zone, on application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It </a:t>
            </a:r>
            <a:r>
              <a:rPr b="0" lang="en-US" sz="1900" spc="-1" strike="noStrike" u="sng">
                <a:solidFill>
                  <a:srgbClr val="0f5494"/>
                </a:solidFill>
                <a:uFillTx/>
                <a:latin typeface="Verdana"/>
              </a:rPr>
              <a:t>may</a:t>
            </a: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 be taken over by MS of the other two zones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During recognition, some parts of the authorisation may be adapted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In assessing an application, a MS shall consult all other MS of its zone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For new applications, only one application per zone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Different time periods for authorisation (12+6 months) and  mutual recognition (120 days)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1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Harmonisation of decision-making standards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47840" y="2168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Challenge to create a level playing field between 28 MS 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The following standards are harmonised on EU level: 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Positive list of active substances (safeners and synergists) for use in PPP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Data requirements for active substance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Data requirements for PPP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Labelling requirements, including standard phrases for special risks and for safety precautions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Uniform principles for evaluation and decision making of PPP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162000" y="1247760"/>
            <a:ext cx="881064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99960" y="127080"/>
            <a:ext cx="721044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76200" y="9684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f5494"/>
                </a:solidFill>
                <a:latin typeface="Verdana"/>
              </a:rPr>
              <a:t>Useful links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85640" y="136224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DG Health and Consumers website on pesticides: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ec.europa.eu/food/plant/pesticides/index_en.htm</a:t>
            </a: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Pesticides database: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ec.europa.eu/sanco_pesticide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Regulation (EC) No 1107/2009 on placing PPP on the market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eur-lex.europa.eu/legal-content/PT/TXT/PDF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/?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uri=CELEX:32009R1107&amp;rid=1</a:t>
            </a: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Regulation (EU) No 283/2013 &amp; 542/2011 on data requirements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http://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eur-lex.europa.eu/legal-content/PT/TXT/PDF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/?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uri=CELEX:32013R0283&amp;rid=4</a:t>
            </a: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 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http://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2"/>
              </a:rPr>
              <a:t>eur-lex.europa.eu/legal-content/PT/TXT/PDF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3"/>
              </a:rPr>
              <a:t>/?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4"/>
              </a:rPr>
              <a:t>uri=CELEX:32013R0284&amp;rid=5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Regulation (EU) No 546/2011 on uniform principles for evaluation and decision-making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5"/>
              </a:rPr>
              <a:t>http://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6"/>
              </a:rPr>
              <a:t>eur-lex.europa.eu/legal-content/PT/TXT/PDF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7"/>
              </a:rPr>
              <a:t>/?</a:t>
            </a: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uri=CELEX:32011R0546&amp;rid=1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Directive 2009/128/EC on sustainable use of pesticides</a:t>
            </a:r>
            <a:br>
              <a:rPr sz="1400"/>
            </a:b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http://eur-lex.europa.eu/legal-content/PT/TXT/?qid=1412519619255&amp;uri=CELEX:02009L0128-20091125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Regulation (EC) No 396/2005 on pesticide residues</a:t>
            </a:r>
            <a:br>
              <a:rPr sz="1400"/>
            </a:b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http://eur-lex.europa.eu/legal-content/PT/TXT/?qid=1412519532173&amp;uri=CELEX:02005R0396-20140202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25520" y="2754360"/>
            <a:ext cx="64468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Simplified Arabic Fixed"/>
                <a:ea typeface="Simplified Arabic Fixed"/>
              </a:rPr>
              <a:t>Thank you very much</a:t>
            </a: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Simplified Arabic Fixed"/>
                <a:ea typeface="Simplified Arabic Fixed"/>
              </a:rPr>
              <a:t>for your attention!</a:t>
            </a: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Simplified Arabic Fixed"/>
                <a:ea typeface="Simplified Arabic Fixed"/>
              </a:rPr>
              <a:t> </a:t>
            </a: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102"/>
                            </p:stCondLst>
                            <p:childTnLst>
                              <p:par>
                                <p:cTn id="303" nodeType="afterEffect" fill="remove" presetClass="emph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4" dur="250" autoRev="1" fill="remove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305" dur="250" autoRev="1" fill="remove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06" dur="250" autoRev="1" fill="remove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602"/>
                            </p:stCondLst>
                            <p:childTnLst>
                              <p:par>
                                <p:cTn id="308" nodeType="afterEffect" fill="remove" presetClass="emph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9" dur="250" autoRev="1" fill="remove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310" dur="250" autoRev="1" fill="remove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11" dur="250" autoRev="1" fill="remove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4102"/>
                            </p:stCondLst>
                            <p:childTnLst>
                              <p:par>
                                <p:cTn id="314" nodeType="afterEffect" fill="remove" presetClass="emph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15" dur="250" autoRev="1" fill="remove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316" dur="250" autoRev="1" fill="remove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17" dur="250" autoRev="1" fill="remove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1" dur="1" fill="hold"/>
                                  <p:tgtEl>
                                    <p:spTgt spid="1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2"/>
          <p:cNvSpPr/>
          <p:nvPr/>
        </p:nvSpPr>
        <p:spPr>
          <a:xfrm>
            <a:off x="3105000" y="1552680"/>
            <a:ext cx="3629160" cy="3276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2419200" y="1249200"/>
            <a:ext cx="5078520" cy="3783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241200" y="5086440"/>
            <a:ext cx="86886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Pesticide” often used synonymously to agricultural pesticid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Depending on the use, different legislative frameworks can apply to the same pesticide active substance  within the EU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241200" y="1552680"/>
            <a:ext cx="2178000" cy="722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Pesticide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(FAO-definition)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99" name="Straight Arrow Connector 5"/>
          <p:cNvCxnSpPr>
            <a:stCxn id="98" idx="3"/>
          </p:cNvCxnSpPr>
          <p:nvPr/>
        </p:nvCxnSpPr>
        <p:spPr>
          <a:xfrm>
            <a:off x="2418840" y="1912680"/>
            <a:ext cx="10011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bc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bc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The lifecycle of a PPP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17600" y="1989000"/>
            <a:ext cx="8308800" cy="211644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27"/>
          <p:cNvGrpSpPr/>
          <p:nvPr/>
        </p:nvGrpSpPr>
        <p:grpSpPr>
          <a:xfrm>
            <a:off x="528480" y="3546360"/>
            <a:ext cx="7632720" cy="2971080"/>
            <a:chOff x="528480" y="3546360"/>
            <a:chExt cx="7632720" cy="2971080"/>
          </a:xfrm>
        </p:grpSpPr>
        <p:sp>
          <p:nvSpPr>
            <p:cNvPr id="103" name="Text Box 7"/>
            <p:cNvSpPr/>
            <p:nvPr/>
          </p:nvSpPr>
          <p:spPr>
            <a:xfrm>
              <a:off x="528480" y="3562200"/>
              <a:ext cx="244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Regulation (EC) No 1107/2009</a:t>
              </a:r>
              <a:endParaRPr b="1" lang="en-US" sz="2000" spc="-1" strike="noStrike">
                <a:solidFill>
                  <a:srgbClr val="ffd624"/>
                </a:solidFill>
                <a:latin typeface="Verdana"/>
              </a:endParaRPr>
            </a:p>
          </p:txBody>
        </p:sp>
        <p:sp>
          <p:nvSpPr>
            <p:cNvPr id="104" name="Text Box 8"/>
            <p:cNvSpPr/>
            <p:nvPr/>
          </p:nvSpPr>
          <p:spPr>
            <a:xfrm>
              <a:off x="3263760" y="3546360"/>
              <a:ext cx="216036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Directive 128/2009/EC on Sustainable Use of Pesticides</a:t>
              </a:r>
              <a:endParaRPr b="1" lang="en-US" sz="2000" spc="-1" strike="noStrike">
                <a:solidFill>
                  <a:srgbClr val="ffd62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Regulation on Pesticide Statistics</a:t>
              </a:r>
              <a:endParaRPr b="1" lang="en-US" sz="1800" spc="-1" strike="noStrike">
                <a:solidFill>
                  <a:srgbClr val="ffd62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Amended Machinery Directive</a:t>
              </a:r>
              <a:endParaRPr b="1" lang="en-US" sz="1800" spc="-1" strike="noStrike">
                <a:solidFill>
                  <a:srgbClr val="ffd624"/>
                </a:solidFill>
                <a:latin typeface="Verdana"/>
              </a:endParaRPr>
            </a:p>
          </p:txBody>
        </p:sp>
        <p:sp>
          <p:nvSpPr>
            <p:cNvPr id="105" name="Text Box 9"/>
            <p:cNvSpPr/>
            <p:nvPr/>
          </p:nvSpPr>
          <p:spPr>
            <a:xfrm>
              <a:off x="6000840" y="3562200"/>
              <a:ext cx="2160360" cy="177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MRL Regulation (396/2005)</a:t>
              </a:r>
              <a:endParaRPr b="1" lang="en-US" sz="2000" spc="-1" strike="noStrike">
                <a:solidFill>
                  <a:srgbClr val="ffd62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Legislation on Chemicals (chemical waste)</a:t>
              </a:r>
              <a:endParaRPr b="1" lang="en-US" sz="20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Dual pre-marketing authoris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432080" y="2327400"/>
            <a:ext cx="627984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91680" cy="4829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7400" y="1209240"/>
            <a:ext cx="5367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Approval of active substanc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Approval of active substanc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Straight Connector 2"/>
          <p:cNvSpPr/>
          <p:nvPr/>
        </p:nvSpPr>
        <p:spPr>
          <a:xfrm>
            <a:off x="343080" y="5334120"/>
            <a:ext cx="817236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grpSp>
        <p:nvGrpSpPr>
          <p:cNvPr id="112" name="Group 2"/>
          <p:cNvGrpSpPr/>
          <p:nvPr/>
        </p:nvGrpSpPr>
        <p:grpSpPr>
          <a:xfrm>
            <a:off x="487440" y="2000160"/>
            <a:ext cx="8191440" cy="4623840"/>
            <a:chOff x="487440" y="2000160"/>
            <a:chExt cx="8191440" cy="4623840"/>
          </a:xfrm>
        </p:grpSpPr>
        <p:pic>
          <p:nvPicPr>
            <p:cNvPr id="113" name="Picture 2" descr=""/>
            <p:cNvPicPr/>
            <p:nvPr/>
          </p:nvPicPr>
          <p:blipFill>
            <a:blip r:embed="rId1"/>
            <a:stretch/>
          </p:blipFill>
          <p:spPr>
            <a:xfrm>
              <a:off x="487440" y="2000160"/>
              <a:ext cx="8191440" cy="45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Box 1"/>
            <p:cNvSpPr/>
            <p:nvPr/>
          </p:nvSpPr>
          <p:spPr>
            <a:xfrm>
              <a:off x="3343320" y="3290760"/>
              <a:ext cx="29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8a2100"/>
                  </a:solidFill>
                  <a:latin typeface="Verdana"/>
                </a:rPr>
                <a:t>(Draft Assessment Report)</a:t>
              </a:r>
              <a:endParaRPr b="1" lang="en-US" sz="1400" spc="-1" strike="noStrike">
                <a:solidFill>
                  <a:srgbClr val="ffd624"/>
                </a:solidFill>
                <a:latin typeface="Verdana"/>
              </a:endParaRPr>
            </a:p>
          </p:txBody>
        </p:sp>
        <p:sp>
          <p:nvSpPr>
            <p:cNvPr id="115" name="TextBox 1"/>
            <p:cNvSpPr/>
            <p:nvPr/>
          </p:nvSpPr>
          <p:spPr>
            <a:xfrm>
              <a:off x="554040" y="6255720"/>
              <a:ext cx="13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601a58"/>
                  </a:solidFill>
                  <a:latin typeface="Verdana"/>
                </a:rPr>
                <a:t>&amp; all MS</a:t>
              </a:r>
              <a:endParaRPr b="1" lang="en-US" sz="18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Approval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760" y="2177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Based on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Draft Assessment Report 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(by 1 rapporteur Member State) and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EFSA Conclusion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Establishes, whether the substance fulfils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the general criteria for approval; and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PPP and their residues are not expected to have harmful 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effects on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human health or groundwater 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or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unacceptable 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effects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 on the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environment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for at least one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representative use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May contain restrictions or conditions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Normally valid for 10 years, renewal of approval for 15 years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May be reviewed at any time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Special approval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218772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Low risk active substances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economic incentives (longer aproval, shorter time to market)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decision </a:t>
            </a:r>
            <a:r>
              <a:rPr b="0" i="1" lang="de-DE" sz="1800" spc="-1" strike="noStrike">
                <a:solidFill>
                  <a:srgbClr val="0f5494"/>
                </a:solidFill>
                <a:latin typeface="Verdana"/>
              </a:rPr>
              <a:t>ex post</a:t>
            </a: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; no presumption of safety - concep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88000" indent="-2880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Candidate for Substitution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substance having more critical profile than average, e.g. </a:t>
            </a: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significantly lower ADI, ARfD or AOEL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substances meeting certain hazard criteria (2/3 PBT criteria)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shorter approval period (7 years)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Comparative assessment at PPP leve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88000" indent="-2880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Basic substances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Not predominantly used in plant protection and no concern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No authorisation required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Hazard elements in decision-mak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18772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Cut-off criteria were introduced as initial step of decision-making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Hazard-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based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 decisions for some environmental issues, e.g.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PBT, vPvB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POP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Hazard-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driven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 decisions for some health issues: 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Classification C, M, R cat.1 under Reg. (EC) No 1272/2008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Endocrine disruptors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Risk elements: not applicable in case of negligible exposure 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or a serious danger to plant health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REINERT Wolfgang (SANCO)</cp:lastModifiedBy>
  <cp:lastPrinted>2014-10-03T09:20:43Z</cp:lastPrinted>
  <dcterms:modified xsi:type="dcterms:W3CDTF">2014-10-05T14:51:58Z</dcterms:modified>
  <cp:revision>341</cp:revision>
  <dc:subject/>
  <dc:title>Slide 1</dc:title>
</cp:coreProperties>
</file>